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461-BC02-4ACC-A795-A99B2DF4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27B-9FEC-4719-84A1-0BF03620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CFEF7-C61A-4855-AC73-1F341566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A0933-3478-447F-A856-68C4C713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11EA0-211F-4AE9-BF27-4357717A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81946-149A-4E8F-989D-A91E772E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5E99D-792A-4F0D-83CE-4D6CCE2C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92F2D-0E09-42D7-B0CA-AB21AEDD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BDAA7-FC74-488D-9D7B-0118F0A2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86C72-0373-4618-B5C5-E0C24F71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0A5A1-B3B3-4402-8969-40D09D0F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A33C4-BD82-40F0-891A-7DD5CBDA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6EB-FACB-4A8D-8154-34376D21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EEAB9-7E86-4A84-84ED-56E3F27D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BE5AB-6D3D-4C34-A0D5-31BA6876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2A5CD-DFED-49C4-B235-ABC56618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96B61-F17E-4492-AFF6-EFB4F7A3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01F71-637E-42F4-8D9E-5EBFA1C5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A6C4E-C018-47C6-B211-C531E317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2B21C-6B43-4DC4-BE73-3486837A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38E27-07FC-4B81-BD6C-48688CF8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C2CC8-A435-44BE-909C-3E86A2B4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21FE2-B087-413C-881C-3CFFD4AF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936-7329-4E36-87B7-1439660C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578A7-9A16-4293-9FF2-B202558E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E5566-C230-4BB1-BF88-3450D238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37E4A-492C-4F3C-8240-0A987B84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9DAC6-099A-4239-A9D1-B4A6E128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FD441-F91F-4518-82D3-A12EC85C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2532D-5837-49BD-977E-35B2DEF2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3FD6F-DFEF-46E3-BDCE-968843CA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3ACD1-3AC3-4C15-826C-F0A5AE5D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9494C-FCE7-43E4-AC14-195873A6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7BFF2-977B-4D0E-9192-45D1849A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0393-42FD-412A-9D5E-13D54032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1FB22-BE72-4B54-B386-FBB10872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14D20-D6FD-459C-9456-1D29A96B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7A111-6192-4CA9-8F5F-0738EA3D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19D68-4552-4317-9B01-0D6E3EB6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880BD-0482-48AD-AAC3-0AF4F3ED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468F8-8C98-48A6-A41F-5B7E0ACE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6ECD0-CA5C-47E9-B57E-9B7D93D7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1B6B5-12FE-48C3-A2C1-5051F121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895D6-FC76-48FA-8C19-964334F4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EDFA1-7B28-45AD-8324-3043D0B1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983F-DA79-4B4E-8071-58305566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29D8F-B406-4CE6-91D4-28666E62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1C4A1-94C8-4B42-99CA-8456FEE6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F3641-CA65-4EA6-B93B-BA5A672F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39507-14EB-4214-A8D3-A5A957BD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03EA3-C0AF-489D-BB99-35089FA4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76DC8-6AC4-46D8-9B85-E0DD2DB8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9A3D2-9585-4734-9AF0-7B7B4077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98A4D-5ECB-4BF4-9DF7-972C04CF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1F10A-D5BE-428A-871C-C52EBF92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6B000-B089-485B-8D36-86B26901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B364-C4E1-4B84-8F43-827FB44E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21C04-A99F-461D-A4C7-8CD759C8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0ED53-2704-4149-8D2E-62189122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C6DDC-96A9-401C-9E14-C4DC00BE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76EB6-344D-41EF-B367-8AD40B69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75EE0-10A1-4462-AB8F-A6AF655B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D2DFF-B024-4689-88BC-4D3CB783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97489-D27C-44C9-94F1-F7F02724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4C2AC-962F-4942-8F0B-21A67972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AA81D-55C4-4F13-A691-06FF1D58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21DD1-708D-4E79-95E7-B8AE8B3F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73CE-1F9F-4DFA-B89A-A136E2CF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B9D89-C3F5-4ADB-8A1E-596DD767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6255C-46CF-4F1B-815C-1AE563BB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455EA-80AE-4B29-817C-3A1A9D1E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614EE-C63C-457E-B3A1-B95F6CF0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A3314-1AE0-4083-9747-6EC8E194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C446E-AFA9-41CE-9EEC-DE60CDAB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230BA-28C1-4341-BFC9-A61DD1D8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002B4-563C-4570-B238-62C69DE0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4833B-BECC-45D9-97C9-182EDF5F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9CDEBA-6508-4D5D-A705-686DF754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74C5-EE33-4D4F-9E13-BECC823E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E4095-F636-4A23-AD30-F6FB6206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F9ADF-B372-4ED8-91E0-3BCAD179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EB537-1BEF-4789-9BD2-E0899FF1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16BCC-DC66-431B-819F-2FDDD894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504F0-B91B-4B52-B85F-E4290509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6104C-CFA3-4926-B69D-1D0A2CB3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77820-C398-417A-B53C-915FFAB7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82905-9353-4FA0-91FD-9072D758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EBC69-9AC7-43AD-A7B8-7CBCCE27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DB7FD4-0C25-4251-A3D5-B0C7FFEF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85A1-E609-4624-BC31-F973F5B6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6BEFE-BD43-49A7-A8B2-038985AF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1EFAC-2E4C-4558-8161-4DDEF1BE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68E237-D7DE-4716-931A-7BE9044A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949B95-97A2-4558-899C-DF582FC9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24EAC5-15B9-4612-8899-23933DE2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CC6ACC-4559-4B0D-81FD-73381E23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A19212-0F37-4A80-ABEB-1458D8B6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0E82D-3D7D-4E96-9E4B-751279DC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2354F4-BE68-4A75-9C43-81C92F62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FB3457-F089-4679-B78F-372CE5C4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9503-18B0-4AAE-A8FF-288A909A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C7FE22-1DE4-454B-B669-D3C4DF0B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C2B555-60C3-4B79-B1AA-CF8120CE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E7C60-B522-4F8E-8ED2-F732F67B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30157-92F6-48C5-BB7C-56C310A2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0ECC3D-1FCF-4FDC-BEC2-4BEFF99E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934DA-4CD2-457F-8C2D-48B1FE0F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C6385F-7A0A-45F3-81DE-2FF19BC8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CC479-8BE4-44A9-9E34-B4C39B6C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63953-A3E9-4B2A-AE8E-913889F7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9FFF7-C233-4688-B09E-01FDABF9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F30-A25E-42C1-87C5-40D65D8C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6BC0-CEBF-42D9-A019-E29800AA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463A8-958F-4C02-9530-09729748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7AAC45-46E6-44B0-9848-7DAEB6C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DE3F3-9222-440A-96EB-090153ED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8D32B-6278-4FF1-8374-4B801F9B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B208E-9292-4E34-B31D-CAFFF8B2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E3419-A378-4BD3-816B-A3B22975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496BC-4784-4C5F-94CD-BAD594C9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76C7AF-83B7-4CF9-8D25-D364FB38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4E6269-DA94-4A6C-97D7-74192B70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6658A1-9E49-4A93-94EC-A4C82709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2FBD-FDF5-4A69-AD21-66347892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7F0764-37B5-4A35-A687-A1C9D0BB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5252F0-C744-4672-9DB0-3CBCC020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00B068-757D-4525-8777-F7B93995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6365B3-1863-4863-BC12-717B448A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46179-5AA6-4AF8-9167-E806A8C7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85D4A-4175-4E6D-A339-B90E5D30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A0FA64-2EA0-45EA-AC5E-813BB841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FDDC7F-67EF-4C99-A25A-DA5F0C27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4DE467-D39F-4D20-98CB-EBC9B6F6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6DB0EC-957D-43C8-9694-3A306A3C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8A7D-CE45-4265-9780-6ADB1CE1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83AAE4-0A07-4449-8B80-E5F93429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BC9748-405A-4DA0-B046-FB177752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5575FB-AFE8-4B83-8FA9-DC9BE45D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045851-72E9-4BE2-AE51-59F48941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998649-9BEB-4774-825D-4C61B6F6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0D7436-DD8C-47C1-AD42-123EE70F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CF57D5-BEA3-438A-A84D-6CDD1D6C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8093D-AF69-4E55-8FD1-F866F7C0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479270-7D33-4CED-BA30-937FCF76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421B8-757D-4A61-B7E6-EA514690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D8F7-7D6B-4656-B8A4-920306C9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03664-D035-4A7D-8276-1429CDA4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A7F820-A7A5-4D17-B5B8-5BD4C682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B4B432-E20A-4C37-B2FE-38461BFB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AD04DB-C457-43C3-9F21-D73292A7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3A20A7-8DEC-4C0E-962D-5B56769F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7A30C9-ACF4-479E-B273-8A39000F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731B8A-4D06-425D-96C8-7BB02A09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5C2B6F-BF50-4964-BE90-4D0F866F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59BCB4-02AC-44A3-AD43-B36AED2F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BCF75E-C283-48BE-A5BB-2B8F8838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D982-5283-465B-AE24-38786A3D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17A36F-968E-4E33-9CDD-CCCE84CE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CA4DA5-E7CF-4F43-84AA-E92DC0DD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891A91-C6A4-4E42-992F-94A7C4B6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A496C8-01BE-4DC9-B11B-64EE6463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98D1CA-82BD-4A85-ABDF-D9293847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CF518B-EB57-454A-8FEC-F851C537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A2B4B0-0DF2-4F8F-80E0-D142E275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76C5CB-359D-4DD3-9594-CCECFDBE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0DEA27-F7FD-4DFE-9A8B-0D02EF1E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CA3D04-4A16-4E4C-8656-29D930B9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15B4-97A3-40B0-A493-5CDF7114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0602CA-EEAB-4174-A94F-C2D6B88E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F34516-BA3D-4CDB-865C-F95FB03E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151743-0CB8-48BC-A662-76DC30B0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CEDF4D-26FC-450D-A5B4-8B5F256E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43458F-A17A-4494-9194-4C894E2E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FD9F69-6227-4AB6-9F38-93EE5034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EF3C9C-4BD4-475E-8BE8-62437A0B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A90A38-E2D1-4B65-B067-6C8F5C73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54F6C8-F305-4A44-988A-C305A230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B68DD7-A158-4CBD-BA47-D28BE73E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112F-F9D5-4CA0-8E53-3947F437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A65AB2-F3C6-4E5D-847C-B604D7B7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2B271-C2A8-4731-8BB0-36FDC89B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2CBC8D-D6A0-4910-8813-EAEAE16A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7F0ED7-780A-4231-B952-56E1D51C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435867-F150-4175-AE85-0F2C0459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1F7E31-B2DA-48E2-8CBB-8E4B1B1D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C2BA34-43B1-439A-9598-3CC62E04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945DCA-5B79-4EB8-9FBC-44E87D0F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FF3909-42B7-4E7B-A017-60863918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4BBC64-8845-437E-95F8-29CF2DA4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E6AD-6A29-4A19-93C9-7D7BFCAE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FAAF84-8B37-4319-94C8-A18351CE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89E98D-3817-41EC-AF0B-3BAF51DE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6C51AB-7FE1-4217-B98B-52BA0E55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854B26-530B-490E-9F23-282A5A32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B7077F-F826-495C-AF5B-50205A45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443639-F7B5-489A-A9DE-E9065E12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014DD0-A7AF-4D2F-A226-C58367A5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664B64-4B39-4B1E-8B5E-6369A9DD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75F7ED-8053-43D3-9723-8E5C3BFC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6AF238-666E-4B1C-A327-4E345209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2F2AA-FAF3-4B66-9A96-A1E3B8C8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1973C6-319A-4538-B7AF-8F68163F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2FDDCB-0F85-4CC0-A2AD-E0049398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4F308D-DC82-4D8D-BB43-093EFE5B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2D28DF-CD86-4859-863C-D55ADDAF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07F534-EFB7-4E18-B560-F6248E8A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DB4D18-9A6D-45D2-B78F-3108AD3B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A625E6-009D-4FB3-AD99-0B47DBDE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4E076D-018B-403E-A10F-3C41E0C0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23E68D-8F43-4D80-9559-6783ED98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202E5B-88EA-4F73-A362-92C7817E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F695-C6E1-4B92-A481-C90375D1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BFD4BD-C588-401C-B7BF-7643C399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470768-F7FA-47D2-84AB-4FB7722B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D0DAC9-84F4-402E-9330-905D36A3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E8881D-C79A-4F79-8647-C841939C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D5359B-A68A-44B0-B74A-E46C52BE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FBA33C-7FED-49FA-998E-C0EAA380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3AB26C-8865-4F5A-8A03-4455591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69FB24-27AE-4032-9988-8FE5D697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C134BB-6937-4F59-8099-66B9594E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683B4B-F0CD-4A05-905F-ADF9C342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2E9-729D-447F-B949-666789EF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C641-247D-481B-85B2-BD2398AD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4D623B-75FE-4BBA-B71A-513EA1F6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E4D3A3-C7AE-4B7D-A023-573C46F1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C8EB3D-3E1C-427C-BF85-0568D190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017ABB-62C8-4AC3-9791-FBC81190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FB218E-C309-4BDC-9F52-8CA2D0F0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60D5D1-7308-4DBF-BA64-4F87CDC5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A8B6BA-A982-4D9B-994C-AC0180B1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3A2ADB-7121-4A5D-9AEA-F9D83565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E597B7-3BB5-4DF3-8697-D407130E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678E82-6CDF-4E38-BB63-01E08A64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3F8CA-08AE-4D05-AE8F-6268DEC8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906BD4-C488-4530-BB66-53D8791A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0D08EB-1E01-4187-BEA7-99530254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71FB60-137A-4044-9D94-EA5CDD5B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415A36-9A78-4ED2-A68F-2FCB7805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821BD2-C0C8-492B-9CA9-93DDF0C2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448A7A-0D0B-4C7C-AF3B-23140E1C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883AAD-F6D5-4CE0-A56A-748C33E7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B7F9C7-E19A-4196-8296-A5D48B11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7C4DC0-B98C-4EB1-9184-58DD1ED4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AC0DE1-711A-464F-9C08-EFDD31D2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7A3F-AE60-4F04-A924-025783A1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BE3B96-3E30-4DE0-825E-115F3F75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DC89E4-9453-4539-9D58-768959A9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077507-4206-42D8-A750-35457930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85B2AD-FF36-44D3-AAA8-B141CA6D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C69391-9240-4143-A38B-88788BFC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C9D754-024A-4A63-97C0-5F23DC90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046FB9-9691-49B2-9639-7516A7C4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FA2B84-B1D7-4DDC-8ADE-101818BA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E11347-EB33-4D14-B97C-3FF4B356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C64180-D0F1-41F3-B55A-0E14E886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331BD-C591-4CD2-80E6-351325A2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D95710-6D47-4432-A98F-33D20A13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3C5D23-06F8-4620-9510-2447A4BC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CD4738-03A2-4656-AD93-1BBA6648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07ED57-DEA6-4C3E-9334-4C4F7010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C7C93A-F309-4991-A8CA-B3CB29BC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1B672C-79B9-40B4-B78C-BAFB2248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61BF19-827A-412D-92C4-C86B7FCB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C26F61-04E2-43D5-8276-ACCEA2EB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776BFB-FA17-4F47-A7D0-8AF1DEB8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E0C45E-2AAC-40E9-B0CC-5B6F9EB9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12017-A593-455F-A71E-D4221C78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006AD3-E3FC-4B1F-A325-F221C801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9E5F86-6034-455F-BCF1-F75048A0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A62452-5F0A-4C95-AEF1-7C0F7AE1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735081-3159-420D-85DE-27A7D9C9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0E8DBE-6532-467C-B4A1-B714EA9C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AEA78F-C2CF-4D18-8B68-59DAC2A3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BE54BA-54A5-4C13-AF78-77822E03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4C14D9-653A-4E33-BD9F-43DB040D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39D350-1A20-4132-8C4D-69EB1E91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DBEF61-4EF3-4056-BE1C-3CADE245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02524-63AE-4305-86F4-5E69B58A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D76FE4-60F7-45F7-B4D6-3B578276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E532D3-06FB-4436-B6DF-183F7167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3CD2E2-7232-46E4-9190-1090BB91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6B790C-31DD-4B0A-90B4-10AB56A6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70DFED-76AB-448C-A9A7-55232040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D3D899-D86D-449B-B509-90D1BA79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86701B-1C65-4A68-8080-7A4F9A1D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0801B1-576B-4661-A97D-0A18EED3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92B929-8B57-457A-827C-6EA31C4C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98DF41-7892-47A0-8EE9-847CC0E7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540E-1E4E-4B68-BEB2-A2F7BFDE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72FBBD-BBDE-48B0-A1E9-A7B98308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189EDE-74C1-4DA7-9F4E-16CE5C34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334FFD-7BF9-4BD1-8CE8-BF000CCB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92A36A-BF17-47A0-8D4E-51F83725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C460D7-BFFD-494D-8EBD-A692BCBB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44FF76-2533-4974-BD02-F5D1340D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ED9AEC-855B-407A-A59D-BEAC543C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4A4838-AD28-4E27-8C8F-9F676D4A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1D8757-0D1E-4B2D-A7EE-52BDA41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ECBAAD-644C-4901-B733-47A933DC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8FBC4-50AC-4BE7-8BDF-CE37E728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811F49-1DD9-4DB7-BA6E-338E230B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5A902D-F804-4C45-ABAA-042EF39E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AA567B-85FC-4D52-8996-03C34F2F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5A5FB-07C5-4F45-8A2F-70117E80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24085-A6D5-49BF-A49F-F952F973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227-2D5E-4FCD-A250-606D2F8B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4A0BA-0728-4B19-AD90-D3F58B71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A743B-98B8-486C-9632-93A2C87F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DB126-18BF-40F2-833C-47591028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FEDEC-8E8C-4E07-AD23-77848BEB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70134-3CEB-4976-9767-644558FD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55541-10C0-4397-91DF-8AC9F29E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80959-3DA3-4F15-93A7-B157C011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CC74E-D01D-438A-9A77-991307C1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9D14-E2FC-4D8D-8CDC-083ECF37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2B969-4670-4579-9508-4DCC0A9F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261-1F27-4878-BBAE-8207A8E4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5F1E1-EFBC-468A-89AA-EACD14A7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BF766-22BA-44C4-A6CA-6B2C39D7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C2AB0-4865-43C0-A29B-73093E12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DB8D0-2A66-4950-88BC-0CF55D75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E854B-A97F-40A5-AF94-3F7D330D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B8281-B49C-4406-B89B-8C01B80C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ED33E-38D6-4944-9268-29434A05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BE119-F8EA-42D2-816C-F35CE6F8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19047-8EA0-412C-9E1F-C4891C60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BEB12-A67E-438F-8065-83ED329E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83D-A9EF-4D1D-8FB4-AA7D91EB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F55DD-F233-41CA-B9A3-5D002182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9BCA1-882F-417B-BF22-50AFE495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88F07-B7D3-48E8-BF27-E2341DD9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2C5C5-9E52-4642-A0A9-160D2E25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462D9-2EC1-4D12-B2F2-8AA80EDA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D2CBA-0137-4524-8FD5-E3F8B87A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A8694-1831-4B04-AF42-E4B77CE2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CE7A5-0E82-4401-AE1F-376A6FDC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CE47A-EE5A-4D44-9937-2BCFE05D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DCE72-6995-4BF6-801C-7FADC4FF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F46-67EC-4732-9AA3-8D6B1B86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C205A-C6F5-409E-91C6-C333BA2A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01865-3048-4AAE-8461-EB4990F2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71AF8-86BF-4A45-836A-48881443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530FA-6BE3-4649-9306-86CDD36A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8B2F0-C5ED-4EF3-A585-4E55BEFB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FA6CA-48C6-480C-8C41-907817C3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3ABCD-E71C-4A3A-BD58-9D586D92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AC567-9DA8-4266-AC36-D62E5CFC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A8410-359D-4960-AE23-51BD3072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12582-EBD9-414D-8782-CB1A6007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768-0625-4763-BF85-83F34646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47A20-1842-4520-885D-BCE503C9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CD170-0D4F-4037-809A-7D9EEE39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ED95F-A17A-465A-86D2-A6784548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43E3B-36BB-45CF-9CE7-2349A4BF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785D2-9443-411D-940B-2F09812E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4F071-1345-4CFA-B614-4BD25F8D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C9390-9640-4FDE-A0EA-772CD1EE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27BD8-8F83-4C1E-B653-3F5F544B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876A5-E363-419A-A019-9E429002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ABE36-F1BC-4232-BBC8-19657AF4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1FE-D5D6-49E7-8959-D28552D1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F9A79-D741-4A3C-8CFE-AD29A682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32B75-EF5C-4CB9-AC8C-FAA98E1E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9F57E-8083-4C97-ADD5-5D2AF2F7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3FECA-8FD0-464C-B939-DAE286EE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29E0A-132F-45D9-9115-D167BB7D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F6713-E591-47A1-921D-502BDA8C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DE3F4-3EB9-4E11-BDB0-41F25F38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EAF9A-F5F3-4BF4-B97B-35FA6848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F7B78-75E3-4CDA-BF93-CD0817BB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7D75C-3E09-4FC4-8D29-D31436F0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BB00-BEB9-4C6E-B28A-2DE5076025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6411-D1DA-47D5-B36D-49012D992C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80DC-8544-4805-817C-4D2C9DBBBC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F359-1901-4432-918C-D81DC8236D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ABA6-D9EA-4C07-A74D-51C901560E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0310-B348-439D-A776-A5A9FFE2BC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07E7-AE2A-4208-B088-EAF4021679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E887-FA39-4FD7-965A-8B3FE02AE3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1CF9-748F-48E4-8B4F-B16AE52F3B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1640-3A6E-429B-BB08-0329F5746E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232A-5006-4ED1-93B9-57BFBEF0F0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7169-AEF9-42D1-8884-5350296DB6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75EF-CABF-4110-90FB-8E9888336C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8C41-9D60-4673-B978-BE09806369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F433-BBB7-40BF-8960-329F06224E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185E-C1A1-4469-B96B-6DE1BA504D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3E4D-1E51-4106-A5CE-4A5A4B6E11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A8B0-E61A-4510-8EB5-4DC07AD380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D513-D4FE-430C-A15C-4CDEF8E009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B393-266D-4BF9-89B2-FCB138F86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110B-7E44-4906-8C7A-A69F71D0DA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A090-6582-4D2B-941C-66C9C1F52D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BC34-ED7D-492B-839F-432DAE6837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1AF7-4670-4A72-9314-73DAD1D4A4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E9A8-B6CD-4323-A10B-6B13C07A4E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5368-610E-49E1-90BD-F2C23217C2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BECF-8ACA-417D-A579-827E2084D3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6F96-689F-4503-B0D2-4B26C0195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5832-4436-4B24-91E7-AED0BCB791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0792-0D78-41FE-A49C-EDD971A364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1E1A-9121-4B6F-BAD2-EF5AE39BB2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CD01-BD25-4B09-8DAF-B284ABE0CB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E92F-4B1F-4F9C-ADF8-A84DDEA698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8386-31BA-40D3-89B2-75671A2C8F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2796-FAFF-470F-BCF1-E650A02249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950C-44A6-4520-BBA6-C8C5E37AA2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7173-8030-4AF6-BF34-CC807ADDAE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AD27-D8EF-4A78-801E-0855FE185A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4EE5-B974-413B-A69A-6A67A166E0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697E-1DD0-4384-9E0D-A0C9031753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C439-E7C8-4E07-965D-0AC9EC4823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2582-1C93-458C-9F5C-4ADBF439A3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5C5F-4640-4E2A-9BA3-3E6F04467E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E441-AD08-493A-915E-0125B1480B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6140-AF05-4390-BDBF-1D3C61A32B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F5D5-A9A8-4AA4-9464-042F90DBC0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8F05-8EA2-4D80-B97A-3CBD925C04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6E94-C537-453A-9F3E-F83140F60C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38EC-7D56-4262-B87D-882AF8FBC5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BBEF-CADF-472B-93D6-4671F2927A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057640" cy="109548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3129120" y="3033720"/>
            <a:ext cx="2885760" cy="79056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1332000" y="4076640"/>
            <a:ext cx="6391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116737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19880" cy="5048280"/>
          </a:xfrm>
          <a:prstGeom prst="rect">
            <a:avLst/>
          </a:prstGeom>
          <a:ln w="0">
            <a:noFill/>
          </a:ln>
        </p:spPr>
      </p:pic>
      <p:sp>
        <p:nvSpPr>
          <p:cNvPr id="1473" name="矩形 116738"/>
          <p:cNvSpPr/>
          <p:nvPr/>
        </p:nvSpPr>
        <p:spPr>
          <a:xfrm>
            <a:off x="7818480" y="3475080"/>
            <a:ext cx="43956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115713" descr=""/>
          <p:cNvPicPr/>
          <p:nvPr/>
        </p:nvPicPr>
        <p:blipFill>
          <a:blip r:embed="rId1"/>
          <a:stretch/>
        </p:blipFill>
        <p:spPr>
          <a:xfrm>
            <a:off x="461880" y="1871640"/>
            <a:ext cx="8220240" cy="311472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15714"/>
          <p:cNvSpPr/>
          <p:nvPr/>
        </p:nvSpPr>
        <p:spPr>
          <a:xfrm>
            <a:off x="7780320" y="3182760"/>
            <a:ext cx="5112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5715"/>
          <p:cNvSpPr/>
          <p:nvPr/>
        </p:nvSpPr>
        <p:spPr>
          <a:xfrm>
            <a:off x="7716960" y="4605480"/>
            <a:ext cx="5112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114689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4199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13665" descr=""/>
          <p:cNvPicPr/>
          <p:nvPr/>
        </p:nvPicPr>
        <p:blipFill>
          <a:blip r:embed="rId1"/>
          <a:stretch/>
        </p:blipFill>
        <p:spPr>
          <a:xfrm>
            <a:off x="466560" y="2290680"/>
            <a:ext cx="8210880" cy="227664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13666"/>
          <p:cNvSpPr/>
          <p:nvPr/>
        </p:nvSpPr>
        <p:spPr>
          <a:xfrm>
            <a:off x="5951520" y="3144960"/>
            <a:ext cx="272412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3668"/>
          <p:cNvSpPr/>
          <p:nvPr/>
        </p:nvSpPr>
        <p:spPr>
          <a:xfrm>
            <a:off x="826920" y="3573360"/>
            <a:ext cx="14306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3669"/>
          <p:cNvSpPr/>
          <p:nvPr/>
        </p:nvSpPr>
        <p:spPr>
          <a:xfrm>
            <a:off x="4979880" y="3662280"/>
            <a:ext cx="347976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3670"/>
          <p:cNvSpPr/>
          <p:nvPr/>
        </p:nvSpPr>
        <p:spPr>
          <a:xfrm>
            <a:off x="789120" y="4132440"/>
            <a:ext cx="347976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12641" descr=""/>
          <p:cNvPicPr/>
          <p:nvPr/>
        </p:nvPicPr>
        <p:blipFill>
          <a:blip r:embed="rId1"/>
          <a:stretch/>
        </p:blipFill>
        <p:spPr>
          <a:xfrm>
            <a:off x="419040" y="1376280"/>
            <a:ext cx="8305920" cy="410544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12642"/>
          <p:cNvSpPr/>
          <p:nvPr/>
        </p:nvSpPr>
        <p:spPr>
          <a:xfrm>
            <a:off x="7805880" y="3983040"/>
            <a:ext cx="5112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11617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163000" cy="5019840"/>
          </a:xfrm>
          <a:prstGeom prst="rect">
            <a:avLst/>
          </a:prstGeom>
          <a:ln w="0">
            <a:noFill/>
          </a:ln>
        </p:spPr>
      </p:pic>
      <p:sp>
        <p:nvSpPr>
          <p:cNvPr id="1486" name="矩形 111618"/>
          <p:cNvSpPr/>
          <p:nvPr/>
        </p:nvSpPr>
        <p:spPr>
          <a:xfrm>
            <a:off x="3932280" y="4402080"/>
            <a:ext cx="9270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1619"/>
          <p:cNvSpPr/>
          <p:nvPr/>
        </p:nvSpPr>
        <p:spPr>
          <a:xfrm>
            <a:off x="5418000" y="5405400"/>
            <a:ext cx="92736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0593" descr=""/>
          <p:cNvPicPr/>
          <p:nvPr/>
        </p:nvPicPr>
        <p:blipFill>
          <a:blip r:embed="rId1"/>
          <a:stretch/>
        </p:blipFill>
        <p:spPr>
          <a:xfrm>
            <a:off x="628560" y="1905120"/>
            <a:ext cx="7886880" cy="304776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0594"/>
          <p:cNvSpPr/>
          <p:nvPr/>
        </p:nvSpPr>
        <p:spPr>
          <a:xfrm>
            <a:off x="7234200" y="3894120"/>
            <a:ext cx="5112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09569" descr=""/>
          <p:cNvPicPr/>
          <p:nvPr/>
        </p:nvPicPr>
        <p:blipFill>
          <a:blip r:embed="rId1"/>
          <a:stretch/>
        </p:blipFill>
        <p:spPr>
          <a:xfrm>
            <a:off x="571680" y="1681200"/>
            <a:ext cx="8001000" cy="3495600"/>
          </a:xfrm>
          <a:prstGeom prst="rect">
            <a:avLst/>
          </a:prstGeom>
          <a:ln w="0">
            <a:noFill/>
          </a:ln>
        </p:spPr>
      </p:pic>
      <p:sp>
        <p:nvSpPr>
          <p:cNvPr id="1491" name="矩形 109570"/>
          <p:cNvSpPr/>
          <p:nvPr/>
        </p:nvSpPr>
        <p:spPr>
          <a:xfrm>
            <a:off x="7996320" y="2624040"/>
            <a:ext cx="5112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09571"/>
          <p:cNvSpPr/>
          <p:nvPr/>
        </p:nvSpPr>
        <p:spPr>
          <a:xfrm>
            <a:off x="1379520" y="3132000"/>
            <a:ext cx="8161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08545" descr=""/>
          <p:cNvPicPr/>
          <p:nvPr/>
        </p:nvPicPr>
        <p:blipFill>
          <a:blip r:embed="rId1"/>
          <a:stretch/>
        </p:blipFill>
        <p:spPr>
          <a:xfrm>
            <a:off x="438120" y="1028880"/>
            <a:ext cx="8267760" cy="4800600"/>
          </a:xfrm>
          <a:prstGeom prst="rect">
            <a:avLst/>
          </a:prstGeom>
          <a:ln w="0">
            <a:noFill/>
          </a:ln>
        </p:spPr>
      </p:pic>
      <p:sp>
        <p:nvSpPr>
          <p:cNvPr id="1494" name="矩形 108546"/>
          <p:cNvSpPr/>
          <p:nvPr/>
        </p:nvSpPr>
        <p:spPr>
          <a:xfrm>
            <a:off x="7812000" y="2708280"/>
            <a:ext cx="5112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07521" descr=""/>
          <p:cNvPicPr/>
          <p:nvPr/>
        </p:nvPicPr>
        <p:blipFill>
          <a:blip r:embed="rId1"/>
          <a:stretch/>
        </p:blipFill>
        <p:spPr>
          <a:xfrm>
            <a:off x="690480" y="2514600"/>
            <a:ext cx="7763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423720" y="1714680"/>
            <a:ext cx="8296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06497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48680" cy="1409760"/>
          </a:xfrm>
          <a:prstGeom prst="rect">
            <a:avLst/>
          </a:prstGeom>
          <a:ln w="0">
            <a:noFill/>
          </a:ln>
        </p:spPr>
      </p:pic>
      <p:pic>
        <p:nvPicPr>
          <p:cNvPr id="1497" name="图片 106498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59342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125955" descr=""/>
          <p:cNvPicPr/>
          <p:nvPr/>
        </p:nvPicPr>
        <p:blipFill>
          <a:blip r:embed="rId1"/>
          <a:stretch/>
        </p:blipFill>
        <p:spPr>
          <a:xfrm>
            <a:off x="714240" y="1666800"/>
            <a:ext cx="7715520" cy="3524400"/>
          </a:xfrm>
          <a:prstGeom prst="rect">
            <a:avLst/>
          </a:prstGeom>
          <a:ln w="0">
            <a:noFill/>
          </a:ln>
        </p:spPr>
      </p:pic>
      <p:sp>
        <p:nvSpPr>
          <p:cNvPr id="1499" name="矩形 125956"/>
          <p:cNvSpPr/>
          <p:nvPr/>
        </p:nvSpPr>
        <p:spPr>
          <a:xfrm>
            <a:off x="1582560" y="2662200"/>
            <a:ext cx="9734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25957"/>
          <p:cNvSpPr/>
          <p:nvPr/>
        </p:nvSpPr>
        <p:spPr>
          <a:xfrm>
            <a:off x="6485040" y="3678120"/>
            <a:ext cx="75096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25958"/>
          <p:cNvSpPr/>
          <p:nvPr/>
        </p:nvSpPr>
        <p:spPr>
          <a:xfrm>
            <a:off x="7297560" y="4148280"/>
            <a:ext cx="75096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25959"/>
          <p:cNvSpPr/>
          <p:nvPr/>
        </p:nvSpPr>
        <p:spPr>
          <a:xfrm>
            <a:off x="2548080" y="4643280"/>
            <a:ext cx="7506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图片 128001" descr=""/>
          <p:cNvPicPr/>
          <p:nvPr/>
        </p:nvPicPr>
        <p:blipFill>
          <a:blip r:embed="rId1"/>
          <a:stretch/>
        </p:blipFill>
        <p:spPr>
          <a:xfrm>
            <a:off x="476280" y="1166760"/>
            <a:ext cx="8191440" cy="452448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28002"/>
          <p:cNvSpPr/>
          <p:nvPr/>
        </p:nvSpPr>
        <p:spPr>
          <a:xfrm>
            <a:off x="5240160" y="2243160"/>
            <a:ext cx="5112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28003"/>
          <p:cNvSpPr/>
          <p:nvPr/>
        </p:nvSpPr>
        <p:spPr>
          <a:xfrm>
            <a:off x="2103480" y="3259080"/>
            <a:ext cx="5112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28004"/>
          <p:cNvSpPr/>
          <p:nvPr/>
        </p:nvSpPr>
        <p:spPr>
          <a:xfrm>
            <a:off x="5214960" y="3780000"/>
            <a:ext cx="5112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28005"/>
          <p:cNvSpPr/>
          <p:nvPr/>
        </p:nvSpPr>
        <p:spPr>
          <a:xfrm>
            <a:off x="6472080" y="4249800"/>
            <a:ext cx="5112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图片 129026" descr=""/>
          <p:cNvPicPr/>
          <p:nvPr/>
        </p:nvPicPr>
        <p:blipFill>
          <a:blip r:embed="rId1"/>
          <a:stretch/>
        </p:blipFill>
        <p:spPr>
          <a:xfrm>
            <a:off x="485640" y="1467000"/>
            <a:ext cx="817272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图片 130049" descr=""/>
          <p:cNvPicPr/>
          <p:nvPr/>
        </p:nvPicPr>
        <p:blipFill>
          <a:blip r:embed="rId1"/>
          <a:stretch/>
        </p:blipFill>
        <p:spPr>
          <a:xfrm>
            <a:off x="476280" y="1152360"/>
            <a:ext cx="8191440" cy="4553280"/>
          </a:xfrm>
          <a:prstGeom prst="rect">
            <a:avLst/>
          </a:prstGeom>
          <a:ln w="0">
            <a:noFill/>
          </a:ln>
        </p:spPr>
      </p:pic>
      <p:sp>
        <p:nvSpPr>
          <p:cNvPr id="1510" name="矩形 130050"/>
          <p:cNvSpPr/>
          <p:nvPr/>
        </p:nvSpPr>
        <p:spPr>
          <a:xfrm>
            <a:off x="3817800" y="1633680"/>
            <a:ext cx="5112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30051"/>
          <p:cNvSpPr/>
          <p:nvPr/>
        </p:nvSpPr>
        <p:spPr>
          <a:xfrm>
            <a:off x="7805880" y="2141640"/>
            <a:ext cx="5112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30052"/>
          <p:cNvSpPr/>
          <p:nvPr/>
        </p:nvSpPr>
        <p:spPr>
          <a:xfrm>
            <a:off x="1849320" y="4668840"/>
            <a:ext cx="5112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30053"/>
          <p:cNvSpPr/>
          <p:nvPr/>
        </p:nvSpPr>
        <p:spPr>
          <a:xfrm>
            <a:off x="6624720" y="4681440"/>
            <a:ext cx="19080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30054"/>
          <p:cNvSpPr/>
          <p:nvPr/>
        </p:nvSpPr>
        <p:spPr>
          <a:xfrm>
            <a:off x="1658880" y="5189400"/>
            <a:ext cx="190836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图片 13107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191440" cy="5105160"/>
          </a:xfrm>
          <a:prstGeom prst="rect">
            <a:avLst/>
          </a:prstGeom>
          <a:ln w="0">
            <a:noFill/>
          </a:ln>
        </p:spPr>
      </p:pic>
      <p:sp>
        <p:nvSpPr>
          <p:cNvPr id="1516" name="矩形 131074"/>
          <p:cNvSpPr/>
          <p:nvPr/>
        </p:nvSpPr>
        <p:spPr>
          <a:xfrm>
            <a:off x="4643280" y="1582560"/>
            <a:ext cx="5112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131075"/>
          <p:cNvSpPr/>
          <p:nvPr/>
        </p:nvSpPr>
        <p:spPr>
          <a:xfrm>
            <a:off x="6853320" y="1582560"/>
            <a:ext cx="8143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131076"/>
          <p:cNvSpPr/>
          <p:nvPr/>
        </p:nvSpPr>
        <p:spPr>
          <a:xfrm>
            <a:off x="2370240" y="2065320"/>
            <a:ext cx="5112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131077"/>
          <p:cNvSpPr/>
          <p:nvPr/>
        </p:nvSpPr>
        <p:spPr>
          <a:xfrm>
            <a:off x="6853320" y="2090880"/>
            <a:ext cx="81432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131078"/>
          <p:cNvSpPr/>
          <p:nvPr/>
        </p:nvSpPr>
        <p:spPr>
          <a:xfrm>
            <a:off x="5291280" y="3576600"/>
            <a:ext cx="5112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131079"/>
          <p:cNvSpPr/>
          <p:nvPr/>
        </p:nvSpPr>
        <p:spPr>
          <a:xfrm>
            <a:off x="2687760" y="5595840"/>
            <a:ext cx="5112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123905" descr=""/>
          <p:cNvPicPr/>
          <p:nvPr/>
        </p:nvPicPr>
        <p:blipFill>
          <a:blip r:embed="rId1"/>
          <a:stretch/>
        </p:blipFill>
        <p:spPr>
          <a:xfrm>
            <a:off x="466560" y="1600200"/>
            <a:ext cx="8210880" cy="3657600"/>
          </a:xfrm>
          <a:prstGeom prst="rect">
            <a:avLst/>
          </a:prstGeom>
          <a:ln w="0">
            <a:noFill/>
          </a:ln>
        </p:spPr>
      </p:pic>
      <p:sp>
        <p:nvSpPr>
          <p:cNvPr id="1437" name="矩形 123906"/>
          <p:cNvSpPr/>
          <p:nvPr/>
        </p:nvSpPr>
        <p:spPr>
          <a:xfrm>
            <a:off x="4859280" y="2421000"/>
            <a:ext cx="7542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3907"/>
          <p:cNvSpPr/>
          <p:nvPr/>
        </p:nvSpPr>
        <p:spPr>
          <a:xfrm>
            <a:off x="7742160" y="3830760"/>
            <a:ext cx="6462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3908"/>
          <p:cNvSpPr/>
          <p:nvPr/>
        </p:nvSpPr>
        <p:spPr>
          <a:xfrm>
            <a:off x="2548080" y="4694400"/>
            <a:ext cx="11602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2881" descr=""/>
          <p:cNvPicPr/>
          <p:nvPr/>
        </p:nvPicPr>
        <p:blipFill>
          <a:blip r:embed="rId1"/>
          <a:stretch/>
        </p:blipFill>
        <p:spPr>
          <a:xfrm>
            <a:off x="414360" y="1833480"/>
            <a:ext cx="8315280" cy="319104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2882"/>
          <p:cNvSpPr/>
          <p:nvPr/>
        </p:nvSpPr>
        <p:spPr>
          <a:xfrm>
            <a:off x="5284800" y="3201840"/>
            <a:ext cx="72720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2883"/>
          <p:cNvSpPr/>
          <p:nvPr/>
        </p:nvSpPr>
        <p:spPr>
          <a:xfrm>
            <a:off x="4094280" y="3659040"/>
            <a:ext cx="163008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2884"/>
          <p:cNvSpPr/>
          <p:nvPr/>
        </p:nvSpPr>
        <p:spPr>
          <a:xfrm>
            <a:off x="3608280" y="4583160"/>
            <a:ext cx="405936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1857" descr=""/>
          <p:cNvPicPr/>
          <p:nvPr/>
        </p:nvPicPr>
        <p:blipFill>
          <a:blip r:embed="rId1"/>
          <a:stretch/>
        </p:blipFill>
        <p:spPr>
          <a:xfrm>
            <a:off x="519120" y="1990800"/>
            <a:ext cx="8105760" cy="287640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1858"/>
          <p:cNvSpPr/>
          <p:nvPr/>
        </p:nvSpPr>
        <p:spPr>
          <a:xfrm>
            <a:off x="8047080" y="2382840"/>
            <a:ext cx="70164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1859"/>
          <p:cNvSpPr/>
          <p:nvPr/>
        </p:nvSpPr>
        <p:spPr>
          <a:xfrm>
            <a:off x="1303200" y="2890800"/>
            <a:ext cx="233208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1860"/>
          <p:cNvSpPr/>
          <p:nvPr/>
        </p:nvSpPr>
        <p:spPr>
          <a:xfrm>
            <a:off x="2408400" y="3944880"/>
            <a:ext cx="41796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083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77120" cy="218124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120834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7077240" cy="1800360"/>
          </a:xfrm>
          <a:prstGeom prst="rect">
            <a:avLst/>
          </a:prstGeom>
          <a:ln w="0">
            <a:noFill/>
          </a:ln>
        </p:spPr>
      </p:pic>
      <p:pic>
        <p:nvPicPr>
          <p:cNvPr id="1450" name="图片 120835" descr=""/>
          <p:cNvPicPr/>
          <p:nvPr/>
        </p:nvPicPr>
        <p:blipFill>
          <a:blip r:embed="rId3"/>
          <a:stretch/>
        </p:blipFill>
        <p:spPr>
          <a:xfrm>
            <a:off x="7740720" y="3284640"/>
            <a:ext cx="1190520" cy="242892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0836"/>
          <p:cNvSpPr/>
          <p:nvPr/>
        </p:nvSpPr>
        <p:spPr>
          <a:xfrm>
            <a:off x="6815160" y="4630680"/>
            <a:ext cx="63648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0837"/>
          <p:cNvSpPr/>
          <p:nvPr/>
        </p:nvSpPr>
        <p:spPr>
          <a:xfrm>
            <a:off x="909720" y="5087880"/>
            <a:ext cx="18619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19809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6991560" cy="866880"/>
          </a:xfrm>
          <a:prstGeom prst="rect">
            <a:avLst/>
          </a:prstGeom>
          <a:ln w="0">
            <a:noFill/>
          </a:ln>
        </p:spPr>
      </p:pic>
      <p:pic>
        <p:nvPicPr>
          <p:cNvPr id="1454" name="图片 119810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78868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8785" descr=""/>
          <p:cNvPicPr/>
          <p:nvPr/>
        </p:nvPicPr>
        <p:blipFill>
          <a:blip r:embed="rId1"/>
          <a:stretch/>
        </p:blipFill>
        <p:spPr>
          <a:xfrm>
            <a:off x="471600" y="1725480"/>
            <a:ext cx="7772400" cy="533520"/>
          </a:xfrm>
          <a:prstGeom prst="rect">
            <a:avLst/>
          </a:prstGeom>
          <a:ln w="0">
            <a:noFill/>
          </a:ln>
        </p:spPr>
      </p:pic>
      <p:pic>
        <p:nvPicPr>
          <p:cNvPr id="1456" name="图片 118786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7858080" cy="379080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18787"/>
          <p:cNvSpPr/>
          <p:nvPr/>
        </p:nvSpPr>
        <p:spPr>
          <a:xfrm>
            <a:off x="5532480" y="1646280"/>
            <a:ext cx="11602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18788"/>
          <p:cNvSpPr/>
          <p:nvPr/>
        </p:nvSpPr>
        <p:spPr>
          <a:xfrm>
            <a:off x="7462800" y="1658880"/>
            <a:ext cx="7812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8789"/>
          <p:cNvSpPr/>
          <p:nvPr/>
        </p:nvSpPr>
        <p:spPr>
          <a:xfrm>
            <a:off x="1125360" y="2205000"/>
            <a:ext cx="7812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8790"/>
          <p:cNvSpPr/>
          <p:nvPr/>
        </p:nvSpPr>
        <p:spPr>
          <a:xfrm>
            <a:off x="7577280" y="2674800"/>
            <a:ext cx="7808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8791"/>
          <p:cNvSpPr/>
          <p:nvPr/>
        </p:nvSpPr>
        <p:spPr>
          <a:xfrm>
            <a:off x="1023840" y="3132000"/>
            <a:ext cx="506088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8792"/>
          <p:cNvSpPr/>
          <p:nvPr/>
        </p:nvSpPr>
        <p:spPr>
          <a:xfrm>
            <a:off x="1316160" y="4491000"/>
            <a:ext cx="60642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8793"/>
          <p:cNvSpPr/>
          <p:nvPr/>
        </p:nvSpPr>
        <p:spPr>
          <a:xfrm>
            <a:off x="3767040" y="5024520"/>
            <a:ext cx="1525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8794"/>
          <p:cNvSpPr/>
          <p:nvPr/>
        </p:nvSpPr>
        <p:spPr>
          <a:xfrm>
            <a:off x="2627280" y="5386320"/>
            <a:ext cx="7812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7761" descr=""/>
          <p:cNvPicPr/>
          <p:nvPr/>
        </p:nvPicPr>
        <p:blipFill>
          <a:blip r:embed="rId1"/>
          <a:stretch/>
        </p:blipFill>
        <p:spPr>
          <a:xfrm>
            <a:off x="652320" y="1209600"/>
            <a:ext cx="7839360" cy="44388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7762"/>
          <p:cNvSpPr/>
          <p:nvPr/>
        </p:nvSpPr>
        <p:spPr>
          <a:xfrm>
            <a:off x="5364000" y="1125360"/>
            <a:ext cx="302436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7763"/>
          <p:cNvSpPr/>
          <p:nvPr/>
        </p:nvSpPr>
        <p:spPr>
          <a:xfrm>
            <a:off x="1227240" y="1557360"/>
            <a:ext cx="132876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7764"/>
          <p:cNvSpPr/>
          <p:nvPr/>
        </p:nvSpPr>
        <p:spPr>
          <a:xfrm>
            <a:off x="7615080" y="2027160"/>
            <a:ext cx="6289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7765"/>
          <p:cNvSpPr/>
          <p:nvPr/>
        </p:nvSpPr>
        <p:spPr>
          <a:xfrm>
            <a:off x="4211640" y="2941560"/>
            <a:ext cx="62856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7766"/>
          <p:cNvSpPr/>
          <p:nvPr/>
        </p:nvSpPr>
        <p:spPr>
          <a:xfrm>
            <a:off x="6637320" y="4313160"/>
            <a:ext cx="62856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7767"/>
          <p:cNvSpPr/>
          <p:nvPr/>
        </p:nvSpPr>
        <p:spPr>
          <a:xfrm>
            <a:off x="7589880" y="4770360"/>
            <a:ext cx="62856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7:59:22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